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7BC0-5A73-46D9-BD95-67833E8E0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F588-6D45-40C4-81C2-DD511450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5119-15C2-4C88-AC64-840972ADB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48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956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40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48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956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80A0-1E18-4789-838C-158321067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8E8D-35B1-470C-B262-86949284D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53086-776F-4505-8065-D04E9379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9069-55C4-4217-BDD0-DEC4B7FF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36DC-87E6-44A5-A709-6F8B31D3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3B79-12A6-4807-BD74-823D06A8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400" y="455760"/>
            <a:ext cx="8227800" cy="24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F48A-D3F7-48A1-A312-1A7E5E87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8410-AA01-4E51-9D52-0273C1F0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77DA-79EC-40F6-A867-B8E1B80C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C1FAB-0229-4A06-8D13-27CBE775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6F4D-DCE3-47A9-B57B-36976CEE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EE16-E84F-45F3-87C5-3450BEFB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A1B4-BD43-4B4F-959D-13AD2E946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748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1956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40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748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1956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ECD9-B710-4F03-AA24-955D5EFA4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76D6-AA5C-48DB-BC3B-85FF19B4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82D9-554F-4F6C-8CA3-3F385A49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A4AE-15F7-47E7-A7B9-7FE5F716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400" y="455760"/>
            <a:ext cx="8227800" cy="24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0D21-0545-4357-8CAD-7D0137A2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CC2D-61F0-4B0E-BC2A-28707FCD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ADE8-453B-40B5-B9D9-0DEEABF8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2874-B7AF-46B5-A932-7E7CDB3E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Wingdings" charset="2"/>
              <a:buChar char="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8280" y="4735440"/>
            <a:ext cx="2025720" cy="2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DA9E-A922-4651-95D2-349669B5B2C8}" type="datetime">
              <a:rPr b="0" lang="zh-CN" sz="7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87720" y="4735440"/>
            <a:ext cx="2968560" cy="2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57480" y="4735440"/>
            <a:ext cx="2025720" cy="2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CE5E-69CC-462B-AD74-820CD32FC547}" type="slidenum">
              <a:rPr b="0" lang="zh-CN" sz="7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图片 10" descr="图片1_副本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6" name="矩形 9"/>
          <p:cNvSpPr/>
          <p:nvPr/>
        </p:nvSpPr>
        <p:spPr>
          <a:xfrm flipH="1">
            <a:off x="-720" y="123840"/>
            <a:ext cx="2771640" cy="216000"/>
          </a:xfrm>
          <a:prstGeom prst="rect">
            <a:avLst/>
          </a:prstGeom>
          <a:gradFill rotWithShape="0">
            <a:gsLst>
              <a:gs pos="0">
                <a:srgbClr val="63d6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" name="图片 6" descr=""/>
          <p:cNvPicPr/>
          <p:nvPr/>
        </p:nvPicPr>
        <p:blipFill>
          <a:blip r:embed="rId3"/>
          <a:stretch/>
        </p:blipFill>
        <p:spPr>
          <a:xfrm>
            <a:off x="8028000" y="123840"/>
            <a:ext cx="915840" cy="360360"/>
          </a:xfrm>
          <a:prstGeom prst="rect">
            <a:avLst/>
          </a:prstGeom>
          <a:ln w="0">
            <a:noFill/>
          </a:ln>
        </p:spPr>
      </p:pic>
      <p:sp>
        <p:nvSpPr>
          <p:cNvPr id="8" name="文本框 10"/>
          <p:cNvSpPr/>
          <p:nvPr/>
        </p:nvSpPr>
        <p:spPr>
          <a:xfrm>
            <a:off x="306000" y="93600"/>
            <a:ext cx="94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黑体"/>
                <a:ea typeface="黑体"/>
              </a:rPr>
              <a:t>1  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北京的春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0" descr="图片1_副本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6" name="矩形 9"/>
          <p:cNvSpPr/>
          <p:nvPr/>
        </p:nvSpPr>
        <p:spPr>
          <a:xfrm flipH="1">
            <a:off x="-720" y="123840"/>
            <a:ext cx="2771640" cy="216000"/>
          </a:xfrm>
          <a:prstGeom prst="rect">
            <a:avLst/>
          </a:prstGeom>
          <a:gradFill rotWithShape="0">
            <a:gsLst>
              <a:gs pos="0">
                <a:srgbClr val="63d6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图片 6" descr=""/>
          <p:cNvPicPr/>
          <p:nvPr/>
        </p:nvPicPr>
        <p:blipFill>
          <a:blip r:embed="rId3"/>
          <a:stretch/>
        </p:blipFill>
        <p:spPr>
          <a:xfrm>
            <a:off x="8028000" y="123840"/>
            <a:ext cx="915840" cy="360360"/>
          </a:xfrm>
          <a:prstGeom prst="rect">
            <a:avLst/>
          </a:prstGeom>
          <a:ln w="0">
            <a:noFill/>
          </a:ln>
        </p:spPr>
      </p:pic>
      <p:sp>
        <p:nvSpPr>
          <p:cNvPr id="48" name="文本框 10"/>
          <p:cNvSpPr/>
          <p:nvPr/>
        </p:nvSpPr>
        <p:spPr>
          <a:xfrm>
            <a:off x="306000" y="93600"/>
            <a:ext cx="94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黑体"/>
                <a:ea typeface="黑体"/>
              </a:rPr>
              <a:t>1  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北京的春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Wingdings" charset="2"/>
              <a:buChar char="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8280" y="4735440"/>
            <a:ext cx="2025720" cy="2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270D-E5CD-4330-B9D1-32AE3EFA4A8B}" type="datetime">
              <a:rPr b="0" lang="zh-CN" sz="7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087720" y="4735440"/>
            <a:ext cx="2968560" cy="2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657480" y="4735440"/>
            <a:ext cx="2025720" cy="2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045B-FFB3-4B99-92CC-7E56D9FABCA4}" type="slidenum">
              <a:rPr b="0" lang="zh-CN" sz="7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4" descr="0008118694921704_b.jpg"/>
          <p:cNvPicPr/>
          <p:nvPr/>
        </p:nvPicPr>
        <p:blipFill>
          <a:blip r:embed="rId1"/>
          <a:srcRect l="0" t="0" r="0" b="12201"/>
          <a:stretch/>
        </p:blipFill>
        <p:spPr>
          <a:xfrm>
            <a:off x="-3636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91" name="矩形 2" descr=""/>
          <p:cNvPicPr/>
          <p:nvPr/>
        </p:nvPicPr>
        <p:blipFill>
          <a:blip r:embed="rId2"/>
          <a:stretch/>
        </p:blipFill>
        <p:spPr>
          <a:xfrm>
            <a:off x="1152360" y="947880"/>
            <a:ext cx="4173840" cy="830160"/>
          </a:xfrm>
          <a:prstGeom prst="rect">
            <a:avLst/>
          </a:prstGeom>
          <a:ln w="0">
            <a:noFill/>
          </a:ln>
        </p:spPr>
      </p:pic>
      <p:pic>
        <p:nvPicPr>
          <p:cNvPr id="92" name="图片 9" descr="图片1.png"/>
          <p:cNvPicPr/>
          <p:nvPr/>
        </p:nvPicPr>
        <p:blipFill>
          <a:blip r:embed="rId3"/>
          <a:stretch/>
        </p:blipFill>
        <p:spPr>
          <a:xfrm>
            <a:off x="6470640" y="2976480"/>
            <a:ext cx="2225520" cy="974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4"/>
          <a:stretch/>
        </p:blipFill>
        <p:spPr>
          <a:xfrm>
            <a:off x="7967520" y="41400"/>
            <a:ext cx="1027080" cy="488880"/>
          </a:xfrm>
          <a:prstGeom prst="rect">
            <a:avLst/>
          </a:prstGeom>
          <a:ln w="0">
            <a:noFill/>
          </a:ln>
        </p:spPr>
      </p:pic>
      <p:sp>
        <p:nvSpPr>
          <p:cNvPr id="94" name="矩形 12"/>
          <p:cNvSpPr/>
          <p:nvPr/>
        </p:nvSpPr>
        <p:spPr>
          <a:xfrm flipH="1">
            <a:off x="-720" y="158760"/>
            <a:ext cx="2771640" cy="2523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文本框 1"/>
          <p:cNvSpPr/>
          <p:nvPr/>
        </p:nvSpPr>
        <p:spPr>
          <a:xfrm>
            <a:off x="414000" y="103320"/>
            <a:ext cx="164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统编版  语文  六年级  下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图片 5" descr="图片3.png"/>
          <p:cNvPicPr/>
          <p:nvPr/>
        </p:nvPicPr>
        <p:blipFill>
          <a:blip r:embed="rId5"/>
          <a:stretch/>
        </p:blipFill>
        <p:spPr>
          <a:xfrm>
            <a:off x="6470640" y="3803760"/>
            <a:ext cx="230508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1"/>
          <p:cNvSpPr/>
          <p:nvPr/>
        </p:nvSpPr>
        <p:spPr>
          <a:xfrm>
            <a:off x="3419640" y="9360"/>
            <a:ext cx="2124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交流体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76360" y="1131840"/>
            <a:ext cx="7991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体会年前的忙碌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826920" y="1996920"/>
            <a:ext cx="79218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30000"/>
              </a:lnSpc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交流节前的年味主要表现在哪里，节前都有哪些重要的日子，在这些日子里人们的主要活动、讲究及人们的心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2"/>
          <p:cNvSpPr/>
          <p:nvPr/>
        </p:nvSpPr>
        <p:spPr>
          <a:xfrm>
            <a:off x="468360" y="484200"/>
            <a:ext cx="7991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体会过年的热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3"/>
          <p:cNvSpPr/>
          <p:nvPr/>
        </p:nvSpPr>
        <p:spPr>
          <a:xfrm>
            <a:off x="1042920" y="1295280"/>
            <a:ext cx="7416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20000"/>
              </a:lnSpc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过节时重点写了哪几个日子？春节最大的特点是什么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矩形 5" descr=""/>
          <p:cNvPicPr/>
          <p:nvPr/>
        </p:nvPicPr>
        <p:blipFill>
          <a:blip r:embed="rId1"/>
          <a:stretch/>
        </p:blipFill>
        <p:spPr>
          <a:xfrm>
            <a:off x="6032520" y="3271680"/>
            <a:ext cx="2540160" cy="1947960"/>
          </a:xfrm>
          <a:prstGeom prst="rect">
            <a:avLst/>
          </a:prstGeom>
          <a:ln w="0">
            <a:noFill/>
          </a:ln>
        </p:spPr>
      </p:pic>
      <p:grpSp>
        <p:nvGrpSpPr>
          <p:cNvPr id="131" name="组合 13"/>
          <p:cNvGrpSpPr/>
          <p:nvPr/>
        </p:nvGrpSpPr>
        <p:grpSpPr>
          <a:xfrm>
            <a:off x="1482840" y="2571840"/>
            <a:ext cx="1728720" cy="1195200"/>
            <a:chOff x="1482840" y="2571840"/>
            <a:chExt cx="1728720" cy="1195200"/>
          </a:xfrm>
        </p:grpSpPr>
        <p:sp>
          <p:nvSpPr>
            <p:cNvPr id="132" name="云形 6"/>
            <p:cNvSpPr/>
            <p:nvPr/>
          </p:nvSpPr>
          <p:spPr>
            <a:xfrm>
              <a:off x="1482840" y="2571840"/>
              <a:ext cx="1728720" cy="119520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9bd3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矩形 4"/>
            <p:cNvSpPr/>
            <p:nvPr/>
          </p:nvSpPr>
          <p:spPr>
            <a:xfrm>
              <a:off x="1914480" y="2833560"/>
              <a:ext cx="10746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除夕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组合 11"/>
          <p:cNvGrpSpPr/>
          <p:nvPr/>
        </p:nvGrpSpPr>
        <p:grpSpPr>
          <a:xfrm>
            <a:off x="3684600" y="2665440"/>
            <a:ext cx="1874880" cy="1228680"/>
            <a:chOff x="3684600" y="2665440"/>
            <a:chExt cx="1874880" cy="1228680"/>
          </a:xfrm>
        </p:grpSpPr>
        <p:sp>
          <p:nvSpPr>
            <p:cNvPr id="135" name="云形 7"/>
            <p:cNvSpPr/>
            <p:nvPr/>
          </p:nvSpPr>
          <p:spPr>
            <a:xfrm>
              <a:off x="3684600" y="2665440"/>
              <a:ext cx="1874880" cy="122868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bfc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矩形 9"/>
            <p:cNvSpPr/>
            <p:nvPr/>
          </p:nvSpPr>
          <p:spPr>
            <a:xfrm>
              <a:off x="3692520" y="2933640"/>
              <a:ext cx="18432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正月初一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组合 12"/>
          <p:cNvGrpSpPr/>
          <p:nvPr/>
        </p:nvGrpSpPr>
        <p:grpSpPr>
          <a:xfrm>
            <a:off x="5759280" y="2228760"/>
            <a:ext cx="1944720" cy="1228680"/>
            <a:chOff x="5759280" y="2228760"/>
            <a:chExt cx="1944720" cy="1228680"/>
          </a:xfrm>
        </p:grpSpPr>
        <p:sp>
          <p:nvSpPr>
            <p:cNvPr id="138" name="云形 8"/>
            <p:cNvSpPr/>
            <p:nvPr/>
          </p:nvSpPr>
          <p:spPr>
            <a:xfrm>
              <a:off x="5759280" y="2228760"/>
              <a:ext cx="1944720" cy="122868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bce2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矩形 10"/>
            <p:cNvSpPr/>
            <p:nvPr/>
          </p:nvSpPr>
          <p:spPr>
            <a:xfrm>
              <a:off x="6227640" y="2512800"/>
              <a:ext cx="108108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元宵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矩形 1"/>
          <p:cNvSpPr/>
          <p:nvPr/>
        </p:nvSpPr>
        <p:spPr>
          <a:xfrm>
            <a:off x="2484360" y="1276200"/>
            <a:ext cx="4606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除夕：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喜庆、团圆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正月初一：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悠闲、快乐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元宵：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红火、美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矩形 1"/>
          <p:cNvSpPr/>
          <p:nvPr/>
        </p:nvSpPr>
        <p:spPr>
          <a:xfrm>
            <a:off x="3419640" y="1440"/>
            <a:ext cx="2124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较阅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719280" y="1419120"/>
            <a:ext cx="77054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阅读“阅读链接”中斯妤的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除夕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与老舍的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北京的春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进行比较：同是写除夕，二者在写法上有什么不同？自由交流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矩形 1"/>
          <p:cNvSpPr/>
          <p:nvPr/>
        </p:nvSpPr>
        <p:spPr>
          <a:xfrm>
            <a:off x="378000" y="969840"/>
            <a:ext cx="83880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老舍为我们展现的是全景图，抓住除夕时人们主要的活动简单勾勒，语言简洁明快；而“阅读链接”中斯妤由回忆外婆入手，重点写了一家人过除夕的情景，其中细致描写了准备过程和围炉的情景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1"/>
          <p:cNvSpPr/>
          <p:nvPr/>
        </p:nvSpPr>
        <p:spPr>
          <a:xfrm>
            <a:off x="826920" y="268200"/>
            <a:ext cx="4464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总结全文，领悟写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2"/>
          <p:cNvSpPr/>
          <p:nvPr/>
        </p:nvSpPr>
        <p:spPr>
          <a:xfrm>
            <a:off x="684360" y="1611360"/>
            <a:ext cx="77752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再读课文，看看作者是怎样写这篇文章的，文章在写作方法上有什么特色。小组讨论，然后全班交流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矩形 1"/>
          <p:cNvSpPr/>
          <p:nvPr/>
        </p:nvSpPr>
        <p:spPr>
          <a:xfrm>
            <a:off x="1187280" y="1611360"/>
            <a:ext cx="74804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ff00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按时间顺序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有条理地记叙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ff00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有详有略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地写，对春节中的高潮部分进行详细描写，其他部分则简略介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27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148" name="矩形 2" descr=""/>
          <p:cNvPicPr/>
          <p:nvPr/>
        </p:nvPicPr>
        <p:blipFill>
          <a:blip r:embed="rId1"/>
          <a:stretch/>
        </p:blipFill>
        <p:spPr>
          <a:xfrm>
            <a:off x="3087720" y="2109960"/>
            <a:ext cx="3030480" cy="12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椭圆 7"/>
          <p:cNvSpPr/>
          <p:nvPr/>
        </p:nvSpPr>
        <p:spPr>
          <a:xfrm>
            <a:off x="2556000" y="3400560"/>
            <a:ext cx="720720" cy="720720"/>
          </a:xfrm>
          <a:prstGeom prst="ellipse">
            <a:avLst/>
          </a:prstGeom>
          <a:solidFill>
            <a:srgbClr val="eb07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标题 1"/>
          <p:cNvSpPr/>
          <p:nvPr/>
        </p:nvSpPr>
        <p:spPr>
          <a:xfrm>
            <a:off x="755640" y="3363840"/>
            <a:ext cx="736452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楷体"/>
                <a:ea typeface="楷体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北京的春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图片 3" descr=""/>
          <p:cNvPicPr/>
          <p:nvPr/>
        </p:nvPicPr>
        <p:blipFill>
          <a:blip r:embed="rId1"/>
          <a:srcRect l="36084" t="0" r="0" b="0"/>
          <a:stretch/>
        </p:blipFill>
        <p:spPr>
          <a:xfrm>
            <a:off x="6804000" y="4587840"/>
            <a:ext cx="2295720" cy="46368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1" descr=""/>
          <p:cNvPicPr/>
          <p:nvPr/>
        </p:nvPicPr>
        <p:blipFill>
          <a:blip r:embed="rId2"/>
          <a:stretch/>
        </p:blipFill>
        <p:spPr>
          <a:xfrm>
            <a:off x="-388800" y="-206280"/>
            <a:ext cx="992160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1"/>
          <p:cNvSpPr/>
          <p:nvPr/>
        </p:nvSpPr>
        <p:spPr>
          <a:xfrm>
            <a:off x="900000" y="195120"/>
            <a:ext cx="4464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初读课文，整体感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3"/>
          <p:cNvSpPr/>
          <p:nvPr/>
        </p:nvSpPr>
        <p:spPr>
          <a:xfrm>
            <a:off x="755640" y="175896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自由读课文，读准字音，读通句子，注意在不理解的地方做上记号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2"/>
          <p:cNvSpPr/>
          <p:nvPr/>
        </p:nvSpPr>
        <p:spPr>
          <a:xfrm>
            <a:off x="755640" y="784080"/>
            <a:ext cx="7632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快速默读课文，思考：按照老规矩，北京人是怎样过春节的？给你印象最深的是什么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组合 14"/>
          <p:cNvGrpSpPr/>
          <p:nvPr/>
        </p:nvGrpSpPr>
        <p:grpSpPr>
          <a:xfrm>
            <a:off x="812880" y="2643120"/>
            <a:ext cx="1871640" cy="1573200"/>
            <a:chOff x="812880" y="2643120"/>
            <a:chExt cx="1871640" cy="1573200"/>
          </a:xfrm>
        </p:grpSpPr>
        <p:sp>
          <p:nvSpPr>
            <p:cNvPr id="105" name="爆炸形: 14 pt  4"/>
            <p:cNvSpPr/>
            <p:nvPr/>
          </p:nvSpPr>
          <p:spPr>
            <a:xfrm>
              <a:off x="812880" y="2643120"/>
              <a:ext cx="1871640" cy="1573200"/>
            </a:xfrm>
            <a:prstGeom prst="irregularSeal2">
              <a:avLst/>
            </a:prstGeom>
            <a:solidFill>
              <a:srgbClr val="2094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矩形 13"/>
            <p:cNvSpPr/>
            <p:nvPr/>
          </p:nvSpPr>
          <p:spPr>
            <a:xfrm>
              <a:off x="1173240" y="3136680"/>
              <a:ext cx="11509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热闹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组合 15"/>
          <p:cNvGrpSpPr/>
          <p:nvPr/>
        </p:nvGrpSpPr>
        <p:grpSpPr>
          <a:xfrm>
            <a:off x="2378880" y="2247480"/>
            <a:ext cx="2273760" cy="2085120"/>
            <a:chOff x="2378880" y="2247480"/>
            <a:chExt cx="2273760" cy="2085120"/>
          </a:xfrm>
        </p:grpSpPr>
        <p:sp>
          <p:nvSpPr>
            <p:cNvPr id="108" name="爆炸形: 14 pt  16"/>
            <p:cNvSpPr/>
            <p:nvPr/>
          </p:nvSpPr>
          <p:spPr>
            <a:xfrm rot="20491800">
              <a:off x="2579760" y="2503080"/>
              <a:ext cx="1871640" cy="1573200"/>
            </a:xfrm>
            <a:prstGeom prst="irregularSeal2">
              <a:avLst/>
            </a:prstGeom>
            <a:solidFill>
              <a:srgbClr val="de1a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矩形 17"/>
            <p:cNvSpPr/>
            <p:nvPr/>
          </p:nvSpPr>
          <p:spPr>
            <a:xfrm>
              <a:off x="2940120" y="2997000"/>
              <a:ext cx="11509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忙碌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组合 18"/>
          <p:cNvGrpSpPr/>
          <p:nvPr/>
        </p:nvGrpSpPr>
        <p:grpSpPr>
          <a:xfrm>
            <a:off x="4343760" y="2081880"/>
            <a:ext cx="2398320" cy="2280600"/>
            <a:chOff x="4343760" y="2081880"/>
            <a:chExt cx="2398320" cy="2280600"/>
          </a:xfrm>
        </p:grpSpPr>
        <p:sp>
          <p:nvSpPr>
            <p:cNvPr id="111" name="爆炸形: 14 pt  19"/>
            <p:cNvSpPr/>
            <p:nvPr/>
          </p:nvSpPr>
          <p:spPr>
            <a:xfrm rot="1729800">
              <a:off x="4606920" y="2435400"/>
              <a:ext cx="1871640" cy="1573200"/>
            </a:xfrm>
            <a:prstGeom prst="irregularSeal2">
              <a:avLst/>
            </a:prstGeom>
            <a:solidFill>
              <a:srgbClr val="e94520"/>
            </a:solidFill>
            <a:ln w="6480">
              <a:solidFill>
                <a:srgbClr val="f188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矩形 20"/>
            <p:cNvSpPr/>
            <p:nvPr/>
          </p:nvSpPr>
          <p:spPr>
            <a:xfrm>
              <a:off x="4967280" y="2928960"/>
              <a:ext cx="11509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喜庆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组合 21"/>
          <p:cNvGrpSpPr/>
          <p:nvPr/>
        </p:nvGrpSpPr>
        <p:grpSpPr>
          <a:xfrm>
            <a:off x="6293880" y="2167920"/>
            <a:ext cx="2412720" cy="2446200"/>
            <a:chOff x="6293880" y="2167920"/>
            <a:chExt cx="2412720" cy="2446200"/>
          </a:xfrm>
        </p:grpSpPr>
        <p:sp>
          <p:nvSpPr>
            <p:cNvPr id="114" name="爆炸形: 14 pt  22"/>
            <p:cNvSpPr/>
            <p:nvPr/>
          </p:nvSpPr>
          <p:spPr>
            <a:xfrm rot="13771800">
              <a:off x="6563160" y="2604240"/>
              <a:ext cx="1873440" cy="1573200"/>
            </a:xfrm>
            <a:prstGeom prst="irregularSeal2">
              <a:avLst/>
            </a:prstGeom>
            <a:solidFill>
              <a:srgbClr val="34a4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矩形 23"/>
            <p:cNvSpPr/>
            <p:nvPr/>
          </p:nvSpPr>
          <p:spPr>
            <a:xfrm>
              <a:off x="6924600" y="3097080"/>
              <a:ext cx="11509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团圆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1"/>
          <p:cNvSpPr/>
          <p:nvPr/>
        </p:nvSpPr>
        <p:spPr>
          <a:xfrm>
            <a:off x="971640" y="195120"/>
            <a:ext cx="4464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再读课文，理清脉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2"/>
          <p:cNvSpPr/>
          <p:nvPr/>
        </p:nvSpPr>
        <p:spPr>
          <a:xfrm>
            <a:off x="826920" y="1474920"/>
            <a:ext cx="770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快速地浏览课文，思考：作者围绕春节都写了哪些重要的日子？然后以四个人为一个学习小组，合作填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900000" y="771480"/>
          <a:ext cx="7343640" cy="3870360"/>
        </p:xfrm>
        <a:graphic>
          <a:graphicData uri="http://schemas.openxmlformats.org/drawingml/2006/table">
            <a:tbl>
              <a:tblPr/>
              <a:tblGrid>
                <a:gridCol w="2303640"/>
                <a:gridCol w="5040000"/>
              </a:tblGrid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时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风俗习惯或人们的活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矩形 3"/>
          <p:cNvSpPr/>
          <p:nvPr/>
        </p:nvSpPr>
        <p:spPr>
          <a:xfrm>
            <a:off x="3438360" y="0"/>
            <a:ext cx="2124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报交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54200" y="973080"/>
          <a:ext cx="7635600" cy="3782880"/>
        </p:xfrm>
        <a:graphic>
          <a:graphicData uri="http://schemas.openxmlformats.org/drawingml/2006/table">
            <a:tbl>
              <a:tblPr/>
              <a:tblGrid>
                <a:gridCol w="2395080"/>
                <a:gridCol w="5240520"/>
              </a:tblGrid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时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风俗习惯或人们的活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腊八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熬腊八粥、泡腊八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小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放鞭炮、吃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除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做年菜、穿新衣、贴对联、贴年画、灯火通宵、放鞭炮、吃团圆饭、守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正月初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拜年、逛庙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元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看花灯、小孩放花炮、吃元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正月十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小孩上学、大人做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文本框 9"/>
          <p:cNvSpPr/>
          <p:nvPr/>
        </p:nvSpPr>
        <p:spPr>
          <a:xfrm>
            <a:off x="7852320" y="1967040"/>
            <a:ext cx="1155240" cy="18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时间顺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1"/>
          <p:cNvSpPr/>
          <p:nvPr/>
        </p:nvSpPr>
        <p:spPr>
          <a:xfrm>
            <a:off x="900000" y="195120"/>
            <a:ext cx="4464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复习旧知，导入新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2"/>
          <p:cNvSpPr/>
          <p:nvPr/>
        </p:nvSpPr>
        <p:spPr>
          <a:xfrm>
            <a:off x="646200" y="1106640"/>
            <a:ext cx="7850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上节课，我们了解到作者是按照怎样的顺序介绍老北京春节习俗的？作者主要介绍哪些重要日子的活动？老北京的春节让你感受到了什么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1"/>
          <p:cNvSpPr/>
          <p:nvPr/>
        </p:nvSpPr>
        <p:spPr>
          <a:xfrm>
            <a:off x="611280" y="1708200"/>
            <a:ext cx="8047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这节课，我们将继续走进北京的春节，感受北京春节的习俗和它所具有的独特魅力，体会作者的写作方法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3T08:39:56Z</dcterms:created>
  <dc:creator>易提分旗舰店; yitifen.tmall.com</dc:creator>
  <dc:description/>
  <dc:language>en-US</dc:language>
  <cp:lastModifiedBy>lenovo</cp:lastModifiedBy>
  <dcterms:modified xsi:type="dcterms:W3CDTF">2020-08-31T09:25:36Z</dcterms:modified>
  <cp:revision>1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26</vt:lpwstr>
  </property>
  <property fmtid="{D5CDD505-2E9C-101B-9397-08002B2CF9AE}" pid="3" name="来源">
    <vt:lpwstr>状元成才路系列</vt:lpwstr>
  </property>
</Properties>
</file>